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006C-9304-4320-A3A7-2DDEFC6F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A552-E7D7-4432-A6E9-F4CB73B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8B9A-0245-4231-9C07-8208CA12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8572-615F-4789-BBCB-9063AFDE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C956-F116-4BE4-A374-7E80A65A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B563-8661-48E5-BF08-EB72352B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24B1-4FE5-464E-8EB3-0A5115E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723-8515-4CD0-89C7-DB163ECC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9549-728D-4039-88E8-EE22A24E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74C5-08E1-4B00-B099-26D8A53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FFDA-A4B9-40C8-A8CC-A0A6067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BB77-68E9-4B92-90D1-5E5C703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9F2A-7B64-425D-BE3C-DCCF15A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92C7-2781-44E9-B6FB-9E8B85D8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8F66-2DB4-4D3F-81E2-29511D07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2456-3843-4BEF-BFA3-7EB89B4A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89F4-A93D-4D13-BE27-85881AAF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14F5-0A6B-4550-9DF6-9799EC3C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6B15-A4A3-44BB-A59F-FF5E500C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CEAB-F775-49D6-9BAE-D6F8E0B5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362E-A3E7-4778-B164-00F061C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5C6B-CDBF-4D5B-8A30-F58365A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8481-EC0B-46B9-B0B5-5B59E2F3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5627-9031-4117-AD97-AE1D269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115-2E83-46DE-BADC-8840F3A232B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080C-56B3-4649-BC6B-72497F9682E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36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Ти ученик ли си Христов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и гори в теб любовт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кажеш можеш ли в конец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„Дете на вечний съм Отец?"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ученик ли си Христов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що тогаз бездействуваш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ла, докле е още 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разказвай как си ти спасен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ученик ли си Христов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ближи се с Бога чрез молб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Той ще чуе твоя гл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ще те избавя всеки час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Ти ученик ли си Христов? Изпитай себе си и виж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и си оправдан в Хрис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чрез вяра във благодатта?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1962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Аз ученик да съм Христ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желая, приеми ме 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 чрез Твоята благо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да светя и да бъда свят! :]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/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4:59Z</dcterms:modified>
  <cp:revision>190</cp:revision>
  <dc:subject/>
  <dc:title>Slide 1</dc:title>
</cp:coreProperties>
</file>